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115-DEE8-4C0F-991A-68EC5F2A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E5E-CCED-4A3A-AB94-60E145D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D04-1760-4F2D-B9E9-83F4D594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08A-A2CB-41F1-8CAE-7F5F7CA6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DFA-0913-4B34-B8A0-5AA7B285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4749-91E0-4A2C-8F0D-36F85BE0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60E-BA57-4BF0-849E-F6B462B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C92-B73C-4181-82DE-6B01DAD4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FB7-23B0-41FF-89BB-6BA32F3D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D82B-F74B-4DF0-A2A7-28F5E5AF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AFAB-479C-42AA-8B21-6EF90CB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06A-5100-455F-A566-1330EEC2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E772-6644-4D24-A853-498FAFF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62C2-737C-422C-97DB-E60BC4A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CA03-220F-4993-B075-844F346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3A49-4327-4712-8E64-6F65DE6F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76E-6D37-4AB1-8FF6-279A2C8E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598-C6C0-4C65-839F-66055D4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8BC-BE82-4D8B-83FA-07FD6AC6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EF6-B9BC-4EDA-B730-33FE711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594-7F4A-4B08-B72A-C5F7042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F47-D324-4A97-8D09-30DA4C3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440-204F-41D3-B46F-1AC0310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E98-099C-48FD-BF5C-B24CD08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2FF-685A-4D98-A743-BBACE4F212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CC1D-E65E-4416-AE65-127843C86E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Vocabulary Kenlie and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Jalia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external image school18.gif"/>
          <p:cNvPicPr/>
          <p:nvPr/>
        </p:nvPicPr>
        <p:blipFill>
          <a:blip r:embed="rId1"/>
          <a:stretch/>
        </p:blipFill>
        <p:spPr>
          <a:xfrm>
            <a:off x="3352680" y="3657600"/>
            <a:ext cx="3200400" cy="278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external image Mathematics.jpg"/>
          <p:cNvPicPr/>
          <p:nvPr/>
        </p:nvPicPr>
        <p:blipFill>
          <a:blip r:embed="rId2"/>
          <a:stretch/>
        </p:blipFill>
        <p:spPr>
          <a:xfrm>
            <a:off x="1752480" y="609480"/>
            <a:ext cx="5715000" cy="952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love_turkey_eat_fish.gif"/>
          <p:cNvPicPr/>
          <p:nvPr/>
        </p:nvPicPr>
        <p:blipFill>
          <a:blip r:embed="rId3"/>
          <a:stretch/>
        </p:blipFill>
        <p:spPr>
          <a:xfrm>
            <a:off x="7162920" y="3048120"/>
            <a:ext cx="914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ege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number with no fractional 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3886200"/>
            <a:ext cx="1828800" cy="14479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581280"/>
            <a:ext cx="3352680" cy="2133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H ROCKS!!!(=“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Estimate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lose guess of the actual value, usually with some thought or calculation involv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Alex estimated there were 10,000 sunflowers in the field by counting ro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7667640" y="5105520"/>
            <a:ext cx="147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Ascending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ranged from smallest to larges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numbers are in ascending ord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0,11,13,15,16,23,2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7238880" y="4495680"/>
            <a:ext cx="1752840" cy="2362320"/>
          </a:xfrm>
          <a:prstGeom prst="upArrow">
            <a:avLst>
              <a:gd name="adj1" fmla="val 50000"/>
              <a:gd name="adj2" fmla="val 33693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Descending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ranged from largest to smallest. Decreas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100,45,22,18,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numbers are in descending or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5029200"/>
            <a:ext cx="213372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Numerato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op number in a frac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ow how many parts we ha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Two Thirds and Two Sixths of a Pie Fraction"/>
          <p:cNvPicPr/>
          <p:nvPr/>
        </p:nvPicPr>
        <p:blipFill>
          <a:blip r:embed="rId1"/>
          <a:stretch/>
        </p:blipFill>
        <p:spPr>
          <a:xfrm>
            <a:off x="5948280" y="3871800"/>
            <a:ext cx="33339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Denominato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bottom number in a frac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ow how many equal parts the item is divided into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Fraction Pie Divided into Quarters"/>
          <p:cNvPicPr/>
          <p:nvPr/>
        </p:nvPicPr>
        <p:blipFill>
          <a:blip r:embed="rId1"/>
          <a:stretch/>
        </p:blipFill>
        <p:spPr>
          <a:xfrm>
            <a:off x="6086520" y="4267080"/>
            <a:ext cx="2917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38:47Z</dcterms:created>
  <dc:creator>amber.kent</dc:creator>
  <dc:description/>
  <dc:language>en-US</dc:language>
  <cp:lastModifiedBy>amber.kent</cp:lastModifiedBy>
  <dcterms:modified xsi:type="dcterms:W3CDTF">2010-11-23T19:35:17Z</dcterms:modified>
  <cp:revision>2</cp:revision>
  <dc:subject/>
  <dc:title>-Vocabulary Kenlie andd                  Jalia!!(=</dc:title>
</cp:coreProperties>
</file>